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27.png" ContentType="image/png"/>
  <Override PartName="/ppt/media/image24.pct" ContentType="image/x-pict"/>
  <Override PartName="/ppt/media/image23.png" ContentType="image/png"/>
  <Override PartName="/ppt/media/image20.pct" ContentType="image/x-pict"/>
  <Override PartName="/ppt/media/image21.png" ContentType="image/png"/>
  <Override PartName="/ppt/media/image55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4.png" ContentType="image/png"/>
  <Override PartName="/ppt/media/image25.png" ContentType="image/png"/>
  <Override PartName="/ppt/media/image22.pct" ContentType="image/x-pict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0.pct" ContentType="image/x-pict"/>
  <Override PartName="/ppt/media/image43.png" ContentType="image/png"/>
  <Override PartName="/ppt/media/image42.png" ContentType="image/png"/>
  <Override PartName="/ppt/media/image44.png" ContentType="image/png"/>
  <Override PartName="/ppt/media/image7.pct" ContentType="image/x-pict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5.png" ContentType="image/png"/>
  <Override PartName="/ppt/media/image54.pct" ContentType="image/x-pict"/>
  <Override PartName="/ppt/media/image31.png" ContentType="image/png"/>
  <Override PartName="/ppt/media/image56.pct" ContentType="image/x-pict"/>
  <Override PartName="/ppt/media/image19.pct" ContentType="image/x-pict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7.pct" ContentType="image/x-pict"/>
  <Override PartName="/ppt/media/image10.pct" ContentType="image/x-pict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41E-E203-41C7-92A2-6225EA43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0B5-F6E8-461E-B3D0-90BEACCD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230-ABE0-4CD2-A389-046B17C4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526-31AD-40F3-A3E7-01295DA8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41D6-2384-429C-9DB6-28CC62EE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AE2E-0ECC-4AC3-9853-7AB576D6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27D7-0238-4CF9-AB6A-4C206F41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3B98-3110-40AB-A902-3A498595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2B38-4B2A-4BF8-99CB-C4FA692D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630-1680-402C-9DB1-C3A15716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4DD4-F720-4ABA-B41D-A3711FFF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8FF-84E9-4807-AAB1-E131AEFA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50E4-6D46-48AB-B32A-E89E73B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2F54-EE3D-4DC6-B453-4D90F6FD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4EB9-438B-4475-9F09-E8BFAE45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33EC-D51B-4462-B1DB-9DFBF76F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041A-1A10-4EBA-9754-AC1E9D8C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33A-DB6E-4B5C-8864-DC3968AB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C86-A388-445A-AF3A-1344088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37F-F476-4027-A6FB-C4B26231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A8A-47A7-4669-A315-589D423A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FBD-4111-466E-B7F3-6513BB90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9FD-D5FC-4DD2-B8B7-E6AF939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108-DE75-44C3-A994-C2821A7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119D-6F4F-4A8C-93C5-E62B8B4942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D26B-0750-4FCA-9A4C-FAF6949AD2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package" Target="../embeddings/oleObject1.pptx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image" Target="../media/image22.pct"/><Relationship Id="rId4" Type="http://schemas.openxmlformats.org/officeDocument/2006/relationships/image" Target="../media/image23.png"/><Relationship Id="rId5" Type="http://schemas.openxmlformats.org/officeDocument/2006/relationships/image" Target="../media/image24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ct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slide" Target="slide5.xml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Supporting students with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Autism Spectrum Disord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t is and how can we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to account what others know, or their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t you, not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func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in a stereotypical and repetitive way such as repeating phrases from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and sustai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understanding the desired message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dn’t say she stole my money (but someone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d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 she stole my money (I definitely didn’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stole my money (but I did imply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le my money (but someone stol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money (she did something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(she stole someone else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m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he stole something e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It’s raining cats and dogs”, “Pull up your sock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 over here”, “I can’t believe it!” –meaning asto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cas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h yeah, right”, “sure you did”, “great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others’ reactions/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others’ intentions or mo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ng language and behaviour 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stress levels an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eotyped and repetitive body movements such as hand flapping and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tense or focuse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ecome stressed in socially-demand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eeking to share enjoyment, interest and activities with other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specific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writing thoughts,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xibility with food choices, clothing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ver-sensitivity e.g noise,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sensitivity eg does not fee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 out ir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o more than one type of sensory input at the same time eg looking and listening – making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otor co-ordination, clum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motor co-ordination -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themselves and thei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 and general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or mak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ping ‘fuzzy’ concep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what others know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evel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levels and anxiety impact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how can we help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teaching and support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ith teachers are extre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fident but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 for solution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nsory needs – make accommo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parents opinions, keep them 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control, u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sitive behaviou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ir special interests to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urpos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s to ai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 sensory calming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engthy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ime to proce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lm and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repare students for change – write things down, don’t just tell -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routin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762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What is Autism Spectrum Disorder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915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developmental disability in which there is dysfunction of some parts of the brain and central nervous system.  This affects how a person learns to understand and use communication and to interact with people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251604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asks into separ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cedures/changes 1-to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ysical prompts,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xpect things to work first time – keep t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name, repeat instruction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e with parents – use same strategies a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gular Learning Suppor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gr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35080" y="981000"/>
            <a:ext cx="2759040" cy="1553760"/>
            <a:chOff x="3835080" y="981000"/>
            <a:chExt cx="2759040" cy="1553760"/>
          </a:xfrm>
        </p:grpSpPr>
        <p:sp>
          <p:nvSpPr>
            <p:cNvPr id="163" name=""/>
            <p:cNvSpPr/>
            <p:nvPr/>
          </p:nvSpPr>
          <p:spPr>
            <a:xfrm>
              <a:off x="3851280" y="981000"/>
              <a:ext cx="2742840" cy="155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799" swAng="19449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799" swAng="19449532"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35080" y="981000"/>
              <a:ext cx="2740680" cy="15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51" y="2063"/>
                  </a:moveTo>
                  <a:arcTo wR="10800" hR="10800" stAng="-7560266" swAng="2151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4451" y="2063"/>
                  </a:moveTo>
                  <a:arcTo wR="10800" hR="10800" stAng="-7560266" swAng="2151302"/>
                </a:path>
              </a:pathLst>
            </a:custGeom>
            <a:solidFill>
              <a:srgbClr val="dddddd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2880" y="981000"/>
              <a:ext cx="360" cy="81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9920" y="1163520"/>
              <a:ext cx="8071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5040000" y="1803600"/>
              <a:ext cx="82296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765680" y="1072080"/>
              <a:ext cx="256320" cy="3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0" y="907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ople with autism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90%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2464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DON’T TALK TO TEACH…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005360"/>
            <a:ext cx="59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USE VISUAL SUP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and show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740560" y="4025880"/>
            <a:ext cx="33685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720720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3480" y="1260360"/>
            <a:ext cx="1306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3600" y="148896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3840" y="1668600"/>
            <a:ext cx="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49800" y="191304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0280" y="3071880"/>
            <a:ext cx="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0040" y="323532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971800"/>
            <a:ext cx="3264120" cy="1295280"/>
          </a:xfrm>
          <a:prstGeom prst="rect">
            <a:avLst/>
          </a:prstGeom>
          <a:solidFill>
            <a:srgbClr val="f8f8f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6840" y="327672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TYPES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VISUAL SUP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54680" y="439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304920"/>
            <a:ext cx="4419720" cy="2528640"/>
            <a:chOff x="457200" y="304920"/>
            <a:chExt cx="4419720" cy="2528640"/>
          </a:xfrm>
        </p:grpSpPr>
        <p:sp>
          <p:nvSpPr>
            <p:cNvPr id="184" name=""/>
            <p:cNvSpPr/>
            <p:nvPr/>
          </p:nvSpPr>
          <p:spPr>
            <a:xfrm>
              <a:off x="4398840" y="803160"/>
              <a:ext cx="419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1295280"/>
              <a:ext cx="2397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95480" y="803160"/>
              <a:ext cx="2397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809880" y="533520"/>
              <a:ext cx="106704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57200" y="304920"/>
              <a:ext cx="10573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8080" y="838080"/>
              <a:ext cx="3657600" cy="1995480"/>
            </a:xfrm>
            <a:prstGeom prst="ellipse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verb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800" y="228600"/>
            <a:ext cx="3591000" cy="2887560"/>
            <a:chOff x="5257800" y="228600"/>
            <a:chExt cx="3591000" cy="2887560"/>
          </a:xfrm>
        </p:grpSpPr>
        <p:sp>
          <p:nvSpPr>
            <p:cNvPr id="191" name=""/>
            <p:cNvSpPr/>
            <p:nvPr/>
          </p:nvSpPr>
          <p:spPr>
            <a:xfrm>
              <a:off x="5257800" y="1066680"/>
              <a:ext cx="3581280" cy="2049480"/>
            </a:xfrm>
            <a:prstGeom prst="ellipse">
              <a:avLst/>
            </a:prstGeom>
            <a:solidFill>
              <a:srgbClr val="66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0280" y="1455840"/>
              <a:ext cx="13222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0640" y="93348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0640" y="256536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1295280"/>
              <a:ext cx="33526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vironmental sup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477120" y="228600"/>
              <a:ext cx="9903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7772400" y="228600"/>
              <a:ext cx="1076400" cy="94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04920" y="4419720"/>
            <a:ext cx="3961800" cy="2147400"/>
            <a:chOff x="304920" y="4419720"/>
            <a:chExt cx="3961800" cy="2147400"/>
          </a:xfrm>
        </p:grpSpPr>
        <p:sp>
          <p:nvSpPr>
            <p:cNvPr id="199" name=""/>
            <p:cNvSpPr/>
            <p:nvPr/>
          </p:nvSpPr>
          <p:spPr>
            <a:xfrm>
              <a:off x="4006440" y="4419720"/>
              <a:ext cx="2484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8240" y="4419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7920" y="4832280"/>
              <a:ext cx="1980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5480" y="4983120"/>
              <a:ext cx="3474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5412600"/>
              <a:ext cx="198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94680" y="4983120"/>
              <a:ext cx="198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304920" y="5292000"/>
              <a:ext cx="57960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3776400" y="4760280"/>
              <a:ext cx="49032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1314360" y="4428000"/>
              <a:ext cx="5482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6280" y="4826880"/>
              <a:ext cx="3156120" cy="1740240"/>
            </a:xfrm>
            <a:prstGeom prst="ellipse">
              <a:avLst/>
            </a:prstGeom>
            <a:solidFill>
              <a:srgbClr val="cce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ty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54880" y="4395960"/>
            <a:ext cx="302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56680" y="4395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9040" y="48690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9080" y="5041800"/>
            <a:ext cx="419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533920"/>
            <a:ext cx="239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05360" y="50418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419720"/>
            <a:ext cx="3809880" cy="1995480"/>
          </a:xfrm>
          <a:prstGeom prst="ellipse">
            <a:avLst/>
          </a:prstGeom>
          <a:solidFill>
            <a:srgbClr val="ff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ally design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meet identifie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4267080"/>
            <a:ext cx="9856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891560" y="4294080"/>
            <a:ext cx="80316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6400800" y="3505320"/>
          <a:ext cx="1208160" cy="90468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505320"/>
                    <a:ext cx="1208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isual  sup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up instructions with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otos, symbols,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timetables /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equenc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orial tim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ehaviou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visual work systems and check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lesson agenda                                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purpose of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sonal written                             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frames,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?                                                 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nished?                                           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reward                                               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14200" cy="100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619200" cy="484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492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028000" y="422100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1249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62064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t does not matter if vis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upports use symbols that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 is not an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difficult 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96880" y="1511280"/>
            <a:ext cx="4938480" cy="2195640"/>
            <a:chOff x="596880" y="1511280"/>
            <a:chExt cx="4938480" cy="2195640"/>
          </a:xfrm>
        </p:grpSpPr>
        <p:sp>
          <p:nvSpPr>
            <p:cNvPr id="231" name=""/>
            <p:cNvSpPr/>
            <p:nvPr/>
          </p:nvSpPr>
          <p:spPr>
            <a:xfrm>
              <a:off x="596880" y="15112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11280" y="1511280"/>
              <a:ext cx="731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1280" y="2425680"/>
              <a:ext cx="73188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3160" y="19684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3160" y="19684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57560" y="1968480"/>
              <a:ext cx="731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7560" y="2882880"/>
              <a:ext cx="7315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9080" y="24256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9080" y="2425680"/>
              <a:ext cx="1646280" cy="1281240"/>
              <a:chOff x="3889080" y="2425680"/>
              <a:chExt cx="1646280" cy="1281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9080" y="2425680"/>
                <a:ext cx="914400" cy="91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3480" y="2425680"/>
                <a:ext cx="73152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3480" y="3340800"/>
                <a:ext cx="73152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35360" y="288324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79400" y="1693800"/>
              <a:ext cx="641160" cy="549360"/>
              <a:chOff x="779400" y="1693800"/>
              <a:chExt cx="641160" cy="549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79400" y="1693800"/>
                <a:ext cx="4579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37320" y="1876680"/>
                <a:ext cx="18324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334960" y="2151000"/>
              <a:ext cx="639360" cy="549360"/>
              <a:chOff x="2334960" y="2151000"/>
              <a:chExt cx="639360" cy="549360"/>
            </a:xfrm>
          </p:grpSpPr>
          <p:sp>
            <p:nvSpPr>
              <p:cNvPr id="248" name=""/>
              <p:cNvSpPr/>
              <p:nvPr/>
            </p:nvSpPr>
            <p:spPr>
              <a:xfrm>
                <a:off x="2334960" y="2151000"/>
                <a:ext cx="4568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91800" y="2333880"/>
                <a:ext cx="18252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981240" y="2610000"/>
              <a:ext cx="639360" cy="547560"/>
              <a:chOff x="3981240" y="2610000"/>
              <a:chExt cx="639360" cy="547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981240" y="2610000"/>
                <a:ext cx="456840" cy="5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38080" y="2792520"/>
                <a:ext cx="182520" cy="273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060280" y="2060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5960" y="187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5960" y="18781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960" y="23353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14760" y="2517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0080" y="2335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23353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0080" y="27925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4992480" y="2792520"/>
            <a:ext cx="384120" cy="73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92480" y="2792520"/>
                      <a:ext cx="38412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4803480" y="3341520"/>
              <a:ext cx="7318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078160" y="33411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78960" y="128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ncertina multi item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49160" y="5900760"/>
          <a:ext cx="100836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5900760"/>
                    <a:ext cx="1008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49160" y="4346640"/>
            <a:ext cx="866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749160" y="5168880"/>
          <a:ext cx="91440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160" y="5168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20560" y="3568680"/>
          <a:ext cx="11890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560" y="3568680"/>
                    <a:ext cx="1189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643760" y="43196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visual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025880" y="3873600"/>
          <a:ext cx="2790720" cy="277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25880" y="3873600"/>
                    <a:ext cx="27907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722280" y="44067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y ring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27720" y="57168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ulti Item For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60" y="2882880"/>
            <a:ext cx="2590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mph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2"/>
          <a:stretch/>
        </p:blipFill>
        <p:spPr>
          <a:xfrm>
            <a:off x="6159600" y="1130400"/>
            <a:ext cx="28382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79280" y="1063800"/>
            <a:ext cx="8534520" cy="5794200"/>
            <a:chOff x="179280" y="1063800"/>
            <a:chExt cx="8534520" cy="5794200"/>
          </a:xfrm>
        </p:grpSpPr>
        <p:grpSp>
          <p:nvGrpSpPr>
            <p:cNvPr id="281" name=""/>
            <p:cNvGrpSpPr/>
            <p:nvPr/>
          </p:nvGrpSpPr>
          <p:grpSpPr>
            <a:xfrm>
              <a:off x="183240" y="1066680"/>
              <a:ext cx="8525880" cy="5787360"/>
              <a:chOff x="183240" y="1066680"/>
              <a:chExt cx="8525880" cy="5787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83240" y="1066680"/>
                <a:ext cx="2162160" cy="430920"/>
                <a:chOff x="183240" y="1066680"/>
                <a:chExt cx="2162160" cy="430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2640" y="1066680"/>
                  <a:ext cx="20426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83240" y="1066680"/>
                  <a:ext cx="216216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45400" y="1066680"/>
                <a:ext cx="3311640" cy="430920"/>
                <a:chOff x="2345400" y="1066680"/>
                <a:chExt cx="3311640" cy="430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04440" y="1066680"/>
                  <a:ext cx="31928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TRONG 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45400" y="1066680"/>
                  <a:ext cx="331164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657400" y="1066680"/>
                <a:ext cx="3051720" cy="430920"/>
                <a:chOff x="5657400" y="1066680"/>
                <a:chExt cx="3051720" cy="430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16800" y="1066680"/>
                  <a:ext cx="29322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IS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57400" y="1066680"/>
                  <a:ext cx="305172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3240" y="1497600"/>
                <a:ext cx="2162160" cy="1104480"/>
                <a:chOff x="183240" y="1497600"/>
                <a:chExt cx="2162160" cy="1104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42640" y="1497600"/>
                  <a:ext cx="20426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O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ease be specific, give brand names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“Fruit loops” Smith’s chicken chips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3240" y="1497600"/>
                  <a:ext cx="21621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45400" y="1497600"/>
                <a:ext cx="3311640" cy="1104480"/>
                <a:chOff x="2345400" y="1497600"/>
                <a:chExt cx="3311640" cy="1104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4440" y="1497600"/>
                  <a:ext cx="31928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45400" y="1497600"/>
                  <a:ext cx="331164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657400" y="1497600"/>
                <a:ext cx="3051720" cy="1104480"/>
                <a:chOff x="5657400" y="1497600"/>
                <a:chExt cx="3051720" cy="1104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716800" y="1497600"/>
                  <a:ext cx="293220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657400" y="1497600"/>
                  <a:ext cx="305172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3240" y="2602080"/>
                <a:ext cx="2162160" cy="1021320"/>
                <a:chOff x="183240" y="2602080"/>
                <a:chExt cx="2162160" cy="1021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2640" y="2602080"/>
                  <a:ext cx="20426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BJE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Woman’s Day magazine,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ng line pillow on own bed, dinosaur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3240" y="2602080"/>
                  <a:ext cx="216216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45400" y="2602080"/>
                <a:ext cx="3311640" cy="1021320"/>
                <a:chOff x="2345400" y="2602080"/>
                <a:chExt cx="3311640" cy="1021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04440" y="2602080"/>
                  <a:ext cx="31928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45400" y="2602080"/>
                  <a:ext cx="331164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57400" y="2602080"/>
                <a:ext cx="3051720" cy="1021320"/>
                <a:chOff x="5657400" y="2602080"/>
                <a:chExt cx="3051720" cy="1021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16800" y="2602080"/>
                  <a:ext cx="293220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57400" y="2602080"/>
                  <a:ext cx="305172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83240" y="3623760"/>
                <a:ext cx="2162160" cy="1126440"/>
                <a:chOff x="183240" y="3623760"/>
                <a:chExt cx="2162160" cy="1126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42640" y="3623760"/>
                  <a:ext cx="20426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IT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swimming, trampoline jumping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shing hair, train travel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83240" y="3623760"/>
                  <a:ext cx="216216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45400" y="3623760"/>
                <a:ext cx="3311640" cy="1126440"/>
                <a:chOff x="2345400" y="3623760"/>
                <a:chExt cx="3311640" cy="112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404440" y="3623760"/>
                  <a:ext cx="31928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5400" y="3623760"/>
                  <a:ext cx="331164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657400" y="3623760"/>
                <a:ext cx="3051720" cy="1126440"/>
                <a:chOff x="5657400" y="3623760"/>
                <a:chExt cx="3051720" cy="1126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6800" y="3623760"/>
                  <a:ext cx="293220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57400" y="3623760"/>
                  <a:ext cx="305172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3240" y="4750200"/>
                <a:ext cx="2162160" cy="1062720"/>
                <a:chOff x="183240" y="4750200"/>
                <a:chExt cx="2162160" cy="1062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42640" y="4750200"/>
                  <a:ext cx="20426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CATIONS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: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in stations, Mc Donald’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3240" y="4750200"/>
                  <a:ext cx="216216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45400" y="4750200"/>
                <a:ext cx="3311640" cy="1062720"/>
                <a:chOff x="2345400" y="4750200"/>
                <a:chExt cx="3311640" cy="1062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04440" y="4750200"/>
                  <a:ext cx="31928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45400" y="4750200"/>
                  <a:ext cx="331164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57400" y="4750200"/>
                <a:ext cx="3051720" cy="1062720"/>
                <a:chOff x="5657400" y="4750200"/>
                <a:chExt cx="3051720" cy="1062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716800" y="4750200"/>
                  <a:ext cx="293220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57400" y="4750200"/>
                  <a:ext cx="305172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83240" y="5813280"/>
                <a:ext cx="2162160" cy="1040760"/>
                <a:chOff x="183240" y="5813280"/>
                <a:chExt cx="2162160" cy="1040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2640" y="5813280"/>
                  <a:ext cx="20426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OP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eg.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m, Sven ( carer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83240" y="5813280"/>
                  <a:ext cx="216216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45400" y="5813280"/>
                <a:ext cx="3311640" cy="1040760"/>
                <a:chOff x="2345400" y="5813280"/>
                <a:chExt cx="3311640" cy="1040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04440" y="5813280"/>
                  <a:ext cx="31928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45400" y="5813280"/>
                  <a:ext cx="331164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657400" y="5813280"/>
                <a:ext cx="3051720" cy="1040760"/>
                <a:chOff x="5657400" y="5813280"/>
                <a:chExt cx="3051720" cy="1040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716800" y="5813280"/>
                  <a:ext cx="293220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57400" y="5813280"/>
                  <a:ext cx="305172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179280" y="1063800"/>
              <a:ext cx="8534520" cy="579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0920" y="2602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66000" y="18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60280"/>
            <a:ext cx="281952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82680" y="260280"/>
            <a:ext cx="28195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2286000"/>
            <a:ext cx="1447560" cy="45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Supervise in pool and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114800"/>
            <a:ext cx="2819520" cy="7077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Wearing layered cl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(like  t-shirt under jum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2438280"/>
            <a:ext cx="762120" cy="700200"/>
          </a:xfrm>
          <a:prstGeom prst="cloudCallout">
            <a:avLst>
              <a:gd name="adj1" fmla="val -85208"/>
              <a:gd name="adj2" fmla="val 22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0"/>
            <a:ext cx="1143000" cy="91440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391520" y="1143000"/>
            <a:ext cx="1295280" cy="1144800"/>
            <a:chOff x="7391520" y="1143000"/>
            <a:chExt cx="1295280" cy="1144800"/>
          </a:xfrm>
        </p:grpSpPr>
        <p:graphicFrame>
          <p:nvGraphicFramePr>
            <p:cNvPr id="349" name=""/>
            <p:cNvGraphicFramePr/>
            <p:nvPr/>
          </p:nvGraphicFramePr>
          <p:xfrm>
            <a:off x="7543800" y="1143000"/>
            <a:ext cx="1076400" cy="73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1143000"/>
                      <a:ext cx="1076400" cy="7333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391520" y="1828800"/>
              <a:ext cx="1295280" cy="4590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Taking things from h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72200" y="838080"/>
            <a:ext cx="762120" cy="838440"/>
            <a:chOff x="6172200" y="838080"/>
            <a:chExt cx="762120" cy="838440"/>
          </a:xfrm>
        </p:grpSpPr>
        <p:sp>
          <p:nvSpPr>
            <p:cNvPr id="353" name=""/>
            <p:cNvSpPr/>
            <p:nvPr/>
          </p:nvSpPr>
          <p:spPr>
            <a:xfrm>
              <a:off x="6571440" y="870480"/>
              <a:ext cx="239400" cy="214200"/>
            </a:xfrm>
            <a:custGeom>
              <a:avLst/>
              <a:gdLst/>
              <a:ahLst/>
              <a:rect l="l" t="t" r="r" b="b"/>
              <a:pathLst>
                <a:path w="557" h="674">
                  <a:moveTo>
                    <a:pt x="38" y="323"/>
                  </a:moveTo>
                  <a:lnTo>
                    <a:pt x="79" y="227"/>
                  </a:lnTo>
                  <a:lnTo>
                    <a:pt x="167" y="126"/>
                  </a:lnTo>
                  <a:lnTo>
                    <a:pt x="255" y="63"/>
                  </a:lnTo>
                  <a:lnTo>
                    <a:pt x="352" y="13"/>
                  </a:lnTo>
                  <a:lnTo>
                    <a:pt x="444" y="0"/>
                  </a:lnTo>
                  <a:lnTo>
                    <a:pt x="507" y="21"/>
                  </a:lnTo>
                  <a:lnTo>
                    <a:pt x="545" y="71"/>
                  </a:lnTo>
                  <a:lnTo>
                    <a:pt x="557" y="134"/>
                  </a:lnTo>
                  <a:lnTo>
                    <a:pt x="545" y="214"/>
                  </a:lnTo>
                  <a:lnTo>
                    <a:pt x="515" y="302"/>
                  </a:lnTo>
                  <a:lnTo>
                    <a:pt x="444" y="386"/>
                  </a:lnTo>
                  <a:lnTo>
                    <a:pt x="364" y="478"/>
                  </a:lnTo>
                  <a:lnTo>
                    <a:pt x="415" y="641"/>
                  </a:lnTo>
                  <a:lnTo>
                    <a:pt x="402" y="674"/>
                  </a:lnTo>
                  <a:lnTo>
                    <a:pt x="377" y="667"/>
                  </a:lnTo>
                  <a:lnTo>
                    <a:pt x="314" y="537"/>
                  </a:lnTo>
                  <a:lnTo>
                    <a:pt x="226" y="591"/>
                  </a:lnTo>
                  <a:lnTo>
                    <a:pt x="117" y="612"/>
                  </a:lnTo>
                  <a:lnTo>
                    <a:pt x="50" y="604"/>
                  </a:lnTo>
                  <a:lnTo>
                    <a:pt x="4" y="553"/>
                  </a:lnTo>
                  <a:lnTo>
                    <a:pt x="0" y="474"/>
                  </a:lnTo>
                  <a:lnTo>
                    <a:pt x="0" y="403"/>
                  </a:lnTo>
                  <a:lnTo>
                    <a:pt x="38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7680" y="838080"/>
              <a:ext cx="268920" cy="239760"/>
            </a:xfrm>
            <a:custGeom>
              <a:avLst/>
              <a:gdLst/>
              <a:ahLst/>
              <a:rect l="l" t="t" r="r" b="b"/>
              <a:pathLst>
                <a:path w="626" h="754">
                  <a:moveTo>
                    <a:pt x="259" y="542"/>
                  </a:moveTo>
                  <a:lnTo>
                    <a:pt x="284" y="567"/>
                  </a:lnTo>
                  <a:lnTo>
                    <a:pt x="301" y="613"/>
                  </a:lnTo>
                  <a:lnTo>
                    <a:pt x="309" y="705"/>
                  </a:lnTo>
                  <a:lnTo>
                    <a:pt x="250" y="754"/>
                  </a:lnTo>
                  <a:lnTo>
                    <a:pt x="171" y="714"/>
                  </a:lnTo>
                  <a:lnTo>
                    <a:pt x="139" y="588"/>
                  </a:lnTo>
                  <a:lnTo>
                    <a:pt x="59" y="388"/>
                  </a:lnTo>
                  <a:lnTo>
                    <a:pt x="21" y="214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51" y="0"/>
                  </a:lnTo>
                  <a:lnTo>
                    <a:pt x="196" y="42"/>
                  </a:lnTo>
                  <a:lnTo>
                    <a:pt x="384" y="113"/>
                  </a:lnTo>
                  <a:lnTo>
                    <a:pt x="435" y="117"/>
                  </a:lnTo>
                  <a:lnTo>
                    <a:pt x="475" y="105"/>
                  </a:lnTo>
                  <a:lnTo>
                    <a:pt x="509" y="163"/>
                  </a:lnTo>
                  <a:lnTo>
                    <a:pt x="626" y="250"/>
                  </a:lnTo>
                  <a:lnTo>
                    <a:pt x="626" y="275"/>
                  </a:lnTo>
                  <a:lnTo>
                    <a:pt x="601" y="288"/>
                  </a:lnTo>
                  <a:lnTo>
                    <a:pt x="513" y="214"/>
                  </a:lnTo>
                  <a:lnTo>
                    <a:pt x="484" y="239"/>
                  </a:lnTo>
                  <a:lnTo>
                    <a:pt x="376" y="267"/>
                  </a:lnTo>
                  <a:lnTo>
                    <a:pt x="313" y="239"/>
                  </a:lnTo>
                  <a:lnTo>
                    <a:pt x="322" y="180"/>
                  </a:lnTo>
                  <a:lnTo>
                    <a:pt x="263" y="138"/>
                  </a:lnTo>
                  <a:lnTo>
                    <a:pt x="158" y="100"/>
                  </a:lnTo>
                  <a:lnTo>
                    <a:pt x="84" y="80"/>
                  </a:lnTo>
                  <a:lnTo>
                    <a:pt x="84" y="138"/>
                  </a:lnTo>
                  <a:lnTo>
                    <a:pt x="101" y="267"/>
                  </a:lnTo>
                  <a:lnTo>
                    <a:pt x="134" y="363"/>
                  </a:lnTo>
                  <a:lnTo>
                    <a:pt x="183" y="468"/>
                  </a:lnTo>
                  <a:lnTo>
                    <a:pt x="259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7760" y="992880"/>
              <a:ext cx="376560" cy="203040"/>
            </a:xfrm>
            <a:custGeom>
              <a:avLst/>
              <a:gdLst/>
              <a:ahLst/>
              <a:rect l="l" t="t" r="r" b="b"/>
              <a:pathLst>
                <a:path w="876" h="639">
                  <a:moveTo>
                    <a:pt x="132" y="386"/>
                  </a:moveTo>
                  <a:lnTo>
                    <a:pt x="74" y="340"/>
                  </a:lnTo>
                  <a:lnTo>
                    <a:pt x="19" y="340"/>
                  </a:lnTo>
                  <a:lnTo>
                    <a:pt x="0" y="390"/>
                  </a:lnTo>
                  <a:lnTo>
                    <a:pt x="19" y="486"/>
                  </a:lnTo>
                  <a:lnTo>
                    <a:pt x="145" y="562"/>
                  </a:lnTo>
                  <a:lnTo>
                    <a:pt x="374" y="629"/>
                  </a:lnTo>
                  <a:lnTo>
                    <a:pt x="420" y="639"/>
                  </a:lnTo>
                  <a:lnTo>
                    <a:pt x="470" y="639"/>
                  </a:lnTo>
                  <a:lnTo>
                    <a:pt x="563" y="639"/>
                  </a:lnTo>
                  <a:lnTo>
                    <a:pt x="725" y="587"/>
                  </a:lnTo>
                  <a:lnTo>
                    <a:pt x="871" y="541"/>
                  </a:lnTo>
                  <a:lnTo>
                    <a:pt x="876" y="512"/>
                  </a:lnTo>
                  <a:lnTo>
                    <a:pt x="800" y="340"/>
                  </a:lnTo>
                  <a:lnTo>
                    <a:pt x="712" y="210"/>
                  </a:lnTo>
                  <a:lnTo>
                    <a:pt x="662" y="147"/>
                  </a:lnTo>
                  <a:lnTo>
                    <a:pt x="662" y="101"/>
                  </a:lnTo>
                  <a:lnTo>
                    <a:pt x="586" y="101"/>
                  </a:lnTo>
                  <a:lnTo>
                    <a:pt x="475" y="0"/>
                  </a:lnTo>
                  <a:lnTo>
                    <a:pt x="445" y="0"/>
                  </a:lnTo>
                  <a:lnTo>
                    <a:pt x="445" y="34"/>
                  </a:lnTo>
                  <a:lnTo>
                    <a:pt x="550" y="109"/>
                  </a:lnTo>
                  <a:lnTo>
                    <a:pt x="550" y="151"/>
                  </a:lnTo>
                  <a:lnTo>
                    <a:pt x="575" y="260"/>
                  </a:lnTo>
                  <a:lnTo>
                    <a:pt x="624" y="273"/>
                  </a:lnTo>
                  <a:lnTo>
                    <a:pt x="674" y="277"/>
                  </a:lnTo>
                  <a:lnTo>
                    <a:pt x="733" y="348"/>
                  </a:lnTo>
                  <a:lnTo>
                    <a:pt x="771" y="474"/>
                  </a:lnTo>
                  <a:lnTo>
                    <a:pt x="746" y="516"/>
                  </a:lnTo>
                  <a:lnTo>
                    <a:pt x="633" y="549"/>
                  </a:lnTo>
                  <a:lnTo>
                    <a:pt x="525" y="553"/>
                  </a:lnTo>
                  <a:lnTo>
                    <a:pt x="437" y="553"/>
                  </a:lnTo>
                  <a:lnTo>
                    <a:pt x="324" y="524"/>
                  </a:lnTo>
                  <a:lnTo>
                    <a:pt x="220" y="465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85600" y="1039680"/>
              <a:ext cx="297000" cy="327240"/>
            </a:xfrm>
            <a:custGeom>
              <a:avLst/>
              <a:gdLst/>
              <a:ahLst/>
              <a:rect l="l" t="t" r="r" b="b"/>
              <a:pathLst>
                <a:path w="691" h="1030">
                  <a:moveTo>
                    <a:pt x="188" y="66"/>
                  </a:moveTo>
                  <a:lnTo>
                    <a:pt x="281" y="24"/>
                  </a:lnTo>
                  <a:lnTo>
                    <a:pt x="390" y="3"/>
                  </a:lnTo>
                  <a:lnTo>
                    <a:pt x="520" y="0"/>
                  </a:lnTo>
                  <a:lnTo>
                    <a:pt x="595" y="16"/>
                  </a:lnTo>
                  <a:lnTo>
                    <a:pt x="679" y="66"/>
                  </a:lnTo>
                  <a:lnTo>
                    <a:pt x="691" y="116"/>
                  </a:lnTo>
                  <a:lnTo>
                    <a:pt x="683" y="179"/>
                  </a:lnTo>
                  <a:lnTo>
                    <a:pt x="645" y="238"/>
                  </a:lnTo>
                  <a:lnTo>
                    <a:pt x="603" y="267"/>
                  </a:lnTo>
                  <a:lnTo>
                    <a:pt x="532" y="301"/>
                  </a:lnTo>
                  <a:lnTo>
                    <a:pt x="465" y="351"/>
                  </a:lnTo>
                  <a:lnTo>
                    <a:pt x="432" y="405"/>
                  </a:lnTo>
                  <a:lnTo>
                    <a:pt x="415" y="506"/>
                  </a:lnTo>
                  <a:lnTo>
                    <a:pt x="440" y="581"/>
                  </a:lnTo>
                  <a:lnTo>
                    <a:pt x="490" y="657"/>
                  </a:lnTo>
                  <a:lnTo>
                    <a:pt x="528" y="766"/>
                  </a:lnTo>
                  <a:lnTo>
                    <a:pt x="532" y="892"/>
                  </a:lnTo>
                  <a:lnTo>
                    <a:pt x="507" y="967"/>
                  </a:lnTo>
                  <a:lnTo>
                    <a:pt x="444" y="1017"/>
                  </a:lnTo>
                  <a:lnTo>
                    <a:pt x="369" y="1030"/>
                  </a:lnTo>
                  <a:lnTo>
                    <a:pt x="256" y="996"/>
                  </a:lnTo>
                  <a:lnTo>
                    <a:pt x="155" y="921"/>
                  </a:lnTo>
                  <a:lnTo>
                    <a:pt x="88" y="829"/>
                  </a:lnTo>
                  <a:lnTo>
                    <a:pt x="25" y="682"/>
                  </a:lnTo>
                  <a:lnTo>
                    <a:pt x="0" y="502"/>
                  </a:lnTo>
                  <a:lnTo>
                    <a:pt x="17" y="343"/>
                  </a:lnTo>
                  <a:lnTo>
                    <a:pt x="63" y="204"/>
                  </a:lnTo>
                  <a:lnTo>
                    <a:pt x="126" y="125"/>
                  </a:lnTo>
                  <a:lnTo>
                    <a:pt x="18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1300680"/>
              <a:ext cx="330120" cy="375840"/>
            </a:xfrm>
            <a:custGeom>
              <a:avLst/>
              <a:gdLst/>
              <a:ahLst/>
              <a:rect l="l" t="t" r="r" b="b"/>
              <a:pathLst>
                <a:path w="768" h="1182">
                  <a:moveTo>
                    <a:pt x="670" y="256"/>
                  </a:moveTo>
                  <a:lnTo>
                    <a:pt x="591" y="155"/>
                  </a:lnTo>
                  <a:lnTo>
                    <a:pt x="482" y="13"/>
                  </a:lnTo>
                  <a:lnTo>
                    <a:pt x="394" y="0"/>
                  </a:lnTo>
                  <a:lnTo>
                    <a:pt x="331" y="13"/>
                  </a:lnTo>
                  <a:lnTo>
                    <a:pt x="314" y="76"/>
                  </a:lnTo>
                  <a:lnTo>
                    <a:pt x="356" y="168"/>
                  </a:lnTo>
                  <a:lnTo>
                    <a:pt x="490" y="281"/>
                  </a:lnTo>
                  <a:lnTo>
                    <a:pt x="608" y="393"/>
                  </a:lnTo>
                  <a:lnTo>
                    <a:pt x="658" y="451"/>
                  </a:lnTo>
                  <a:lnTo>
                    <a:pt x="658" y="481"/>
                  </a:lnTo>
                  <a:lnTo>
                    <a:pt x="620" y="552"/>
                  </a:lnTo>
                  <a:lnTo>
                    <a:pt x="532" y="632"/>
                  </a:lnTo>
                  <a:lnTo>
                    <a:pt x="419" y="682"/>
                  </a:lnTo>
                  <a:lnTo>
                    <a:pt x="293" y="707"/>
                  </a:lnTo>
                  <a:lnTo>
                    <a:pt x="176" y="728"/>
                  </a:lnTo>
                  <a:lnTo>
                    <a:pt x="105" y="741"/>
                  </a:lnTo>
                  <a:lnTo>
                    <a:pt x="38" y="732"/>
                  </a:lnTo>
                  <a:lnTo>
                    <a:pt x="0" y="757"/>
                  </a:lnTo>
                  <a:lnTo>
                    <a:pt x="0" y="806"/>
                  </a:lnTo>
                  <a:lnTo>
                    <a:pt x="25" y="827"/>
                  </a:lnTo>
                  <a:lnTo>
                    <a:pt x="176" y="878"/>
                  </a:lnTo>
                  <a:lnTo>
                    <a:pt x="302" y="953"/>
                  </a:lnTo>
                  <a:lnTo>
                    <a:pt x="406" y="1070"/>
                  </a:lnTo>
                  <a:lnTo>
                    <a:pt x="440" y="1133"/>
                  </a:lnTo>
                  <a:lnTo>
                    <a:pt x="452" y="1179"/>
                  </a:lnTo>
                  <a:lnTo>
                    <a:pt x="503" y="1182"/>
                  </a:lnTo>
                  <a:lnTo>
                    <a:pt x="582" y="1158"/>
                  </a:lnTo>
                  <a:lnTo>
                    <a:pt x="578" y="1095"/>
                  </a:lnTo>
                  <a:lnTo>
                    <a:pt x="494" y="1003"/>
                  </a:lnTo>
                  <a:lnTo>
                    <a:pt x="390" y="919"/>
                  </a:lnTo>
                  <a:lnTo>
                    <a:pt x="302" y="869"/>
                  </a:lnTo>
                  <a:lnTo>
                    <a:pt x="205" y="831"/>
                  </a:lnTo>
                  <a:lnTo>
                    <a:pt x="138" y="806"/>
                  </a:lnTo>
                  <a:lnTo>
                    <a:pt x="142" y="794"/>
                  </a:lnTo>
                  <a:lnTo>
                    <a:pt x="281" y="778"/>
                  </a:lnTo>
                  <a:lnTo>
                    <a:pt x="419" y="753"/>
                  </a:lnTo>
                  <a:lnTo>
                    <a:pt x="545" y="715"/>
                  </a:lnTo>
                  <a:lnTo>
                    <a:pt x="620" y="682"/>
                  </a:lnTo>
                  <a:lnTo>
                    <a:pt x="704" y="602"/>
                  </a:lnTo>
                  <a:lnTo>
                    <a:pt x="746" y="514"/>
                  </a:lnTo>
                  <a:lnTo>
                    <a:pt x="768" y="431"/>
                  </a:lnTo>
                  <a:lnTo>
                    <a:pt x="754" y="365"/>
                  </a:lnTo>
                  <a:lnTo>
                    <a:pt x="708" y="315"/>
                  </a:lnTo>
                  <a:lnTo>
                    <a:pt x="670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47240" y="1271880"/>
              <a:ext cx="275760" cy="395640"/>
            </a:xfrm>
            <a:custGeom>
              <a:avLst/>
              <a:gdLst/>
              <a:ahLst/>
              <a:rect l="l" t="t" r="r" b="b"/>
              <a:pathLst>
                <a:path w="642" h="1244">
                  <a:moveTo>
                    <a:pt x="79" y="0"/>
                  </a:moveTo>
                  <a:lnTo>
                    <a:pt x="4" y="2"/>
                  </a:lnTo>
                  <a:lnTo>
                    <a:pt x="0" y="61"/>
                  </a:lnTo>
                  <a:lnTo>
                    <a:pt x="25" y="124"/>
                  </a:lnTo>
                  <a:lnTo>
                    <a:pt x="88" y="199"/>
                  </a:lnTo>
                  <a:lnTo>
                    <a:pt x="151" y="279"/>
                  </a:lnTo>
                  <a:lnTo>
                    <a:pt x="216" y="453"/>
                  </a:lnTo>
                  <a:lnTo>
                    <a:pt x="237" y="575"/>
                  </a:lnTo>
                  <a:lnTo>
                    <a:pt x="229" y="688"/>
                  </a:lnTo>
                  <a:lnTo>
                    <a:pt x="191" y="838"/>
                  </a:lnTo>
                  <a:lnTo>
                    <a:pt x="151" y="968"/>
                  </a:lnTo>
                  <a:lnTo>
                    <a:pt x="113" y="1102"/>
                  </a:lnTo>
                  <a:lnTo>
                    <a:pt x="88" y="1164"/>
                  </a:lnTo>
                  <a:lnTo>
                    <a:pt x="75" y="1227"/>
                  </a:lnTo>
                  <a:lnTo>
                    <a:pt x="104" y="1244"/>
                  </a:lnTo>
                  <a:lnTo>
                    <a:pt x="178" y="1219"/>
                  </a:lnTo>
                  <a:lnTo>
                    <a:pt x="317" y="1194"/>
                  </a:lnTo>
                  <a:lnTo>
                    <a:pt x="442" y="1206"/>
                  </a:lnTo>
                  <a:lnTo>
                    <a:pt x="567" y="1244"/>
                  </a:lnTo>
                  <a:lnTo>
                    <a:pt x="592" y="1240"/>
                  </a:lnTo>
                  <a:lnTo>
                    <a:pt x="642" y="1164"/>
                  </a:lnTo>
                  <a:lnTo>
                    <a:pt x="642" y="1131"/>
                  </a:lnTo>
                  <a:lnTo>
                    <a:pt x="537" y="1114"/>
                  </a:lnTo>
                  <a:lnTo>
                    <a:pt x="405" y="1114"/>
                  </a:lnTo>
                  <a:lnTo>
                    <a:pt x="279" y="1139"/>
                  </a:lnTo>
                  <a:lnTo>
                    <a:pt x="162" y="1177"/>
                  </a:lnTo>
                  <a:lnTo>
                    <a:pt x="151" y="1156"/>
                  </a:lnTo>
                  <a:lnTo>
                    <a:pt x="174" y="1102"/>
                  </a:lnTo>
                  <a:lnTo>
                    <a:pt x="241" y="942"/>
                  </a:lnTo>
                  <a:lnTo>
                    <a:pt x="287" y="780"/>
                  </a:lnTo>
                  <a:lnTo>
                    <a:pt x="313" y="638"/>
                  </a:lnTo>
                  <a:lnTo>
                    <a:pt x="313" y="562"/>
                  </a:lnTo>
                  <a:lnTo>
                    <a:pt x="300" y="449"/>
                  </a:lnTo>
                  <a:lnTo>
                    <a:pt x="266" y="342"/>
                  </a:lnTo>
                  <a:lnTo>
                    <a:pt x="237" y="266"/>
                  </a:lnTo>
                  <a:lnTo>
                    <a:pt x="191" y="166"/>
                  </a:lnTo>
                  <a:lnTo>
                    <a:pt x="142" y="4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95880" y="1752480"/>
            <a:ext cx="68580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Loud no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96080" y="2438280"/>
            <a:ext cx="1295280" cy="1114920"/>
            <a:chOff x="7696080" y="2438280"/>
            <a:chExt cx="1295280" cy="1114920"/>
          </a:xfrm>
        </p:grpSpPr>
        <p:graphicFrame>
          <p:nvGraphicFramePr>
            <p:cNvPr id="361" name=""/>
            <p:cNvGraphicFramePr/>
            <p:nvPr/>
          </p:nvGraphicFramePr>
          <p:xfrm>
            <a:off x="7696080" y="2438280"/>
            <a:ext cx="1133640" cy="74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2438280"/>
                      <a:ext cx="1133640" cy="746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7696080" y="3276720"/>
              <a:ext cx="1295280" cy="2764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Wearing sh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352680" y="228600"/>
            <a:ext cx="990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228600"/>
            <a:ext cx="1447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3200400"/>
            <a:ext cx="152388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Not knowing what is 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343400" y="5486400"/>
            <a:ext cx="1450800" cy="1371240"/>
            <a:chOff x="4343400" y="5486400"/>
            <a:chExt cx="1450800" cy="1371240"/>
          </a:xfrm>
        </p:grpSpPr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648320" y="5486400"/>
              <a:ext cx="1066680" cy="76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4343400" y="6280200"/>
              <a:ext cx="1450800" cy="577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Magazines and boo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24080" y="2666880"/>
            <a:ext cx="1067040" cy="1371600"/>
            <a:chOff x="3124080" y="2666880"/>
            <a:chExt cx="1067040" cy="137160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3352680" y="2666880"/>
              <a:ext cx="631800" cy="9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3" name=""/>
            <p:cNvSpPr/>
            <p:nvPr/>
          </p:nvSpPr>
          <p:spPr>
            <a:xfrm>
              <a:off x="3124080" y="3581280"/>
              <a:ext cx="1067040" cy="4572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Playing with ballo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24080" y="5486400"/>
            <a:ext cx="990720" cy="1066320"/>
            <a:chOff x="3124080" y="5486400"/>
            <a:chExt cx="990720" cy="1066320"/>
          </a:xfrm>
        </p:grpSpPr>
        <p:pic>
          <p:nvPicPr>
            <p:cNvPr id="375" name="" descr=""/>
            <p:cNvPicPr/>
            <p:nvPr/>
          </p:nvPicPr>
          <p:blipFill>
            <a:blip r:embed="rId8"/>
            <a:stretch/>
          </p:blipFill>
          <p:spPr>
            <a:xfrm>
              <a:off x="3200400" y="5486400"/>
              <a:ext cx="792000" cy="838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6" name=""/>
            <p:cNvSpPr/>
            <p:nvPr/>
          </p:nvSpPr>
          <p:spPr>
            <a:xfrm>
              <a:off x="3124080" y="6324480"/>
              <a:ext cx="99072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har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1371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7621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83808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876920"/>
            <a:ext cx="114300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b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3657600" y="4191120"/>
            <a:ext cx="453960" cy="504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3352680" y="4419720"/>
            <a:ext cx="263520" cy="266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3429000" y="4191120"/>
            <a:ext cx="279360" cy="290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371600" y="3124080"/>
            <a:ext cx="1447560" cy="1419120"/>
            <a:chOff x="1371600" y="3124080"/>
            <a:chExt cx="1447560" cy="1419120"/>
          </a:xfrm>
        </p:grpSpPr>
        <p:grpSp>
          <p:nvGrpSpPr>
            <p:cNvPr id="385" name=""/>
            <p:cNvGrpSpPr/>
            <p:nvPr/>
          </p:nvGrpSpPr>
          <p:grpSpPr>
            <a:xfrm>
              <a:off x="1676520" y="3124080"/>
              <a:ext cx="1142640" cy="590400"/>
              <a:chOff x="1676520" y="3124080"/>
              <a:chExt cx="1142640" cy="590400"/>
            </a:xfrm>
          </p:grpSpPr>
          <p:graphicFrame>
            <p:nvGraphicFramePr>
              <p:cNvPr id="386" name=""/>
              <p:cNvGraphicFramePr/>
              <p:nvPr/>
            </p:nvGraphicFramePr>
            <p:xfrm>
              <a:off x="1676520" y="3124080"/>
              <a:ext cx="336600" cy="5904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676520" y="3124080"/>
                        <a:ext cx="33660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20320" y="3124080"/>
                <a:ext cx="798840" cy="5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020320" y="3245040"/>
                <a:ext cx="147240" cy="24192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76520" y="3245040"/>
                <a:ext cx="196200" cy="18144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371600" y="3809880"/>
              <a:ext cx="137160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Sticking things in ears and e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6095880" y="5867280"/>
            <a:ext cx="679680" cy="704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0" y="5715000"/>
            <a:ext cx="914400" cy="824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Wearing bandages or band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6"/>
          <a:stretch/>
        </p:blipFill>
        <p:spPr>
          <a:xfrm>
            <a:off x="4267080" y="10666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7"/>
          <a:stretch/>
        </p:blipFill>
        <p:spPr>
          <a:xfrm>
            <a:off x="3200400" y="1143000"/>
            <a:ext cx="990720" cy="704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1905120"/>
            <a:ext cx="2590560" cy="45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fruit and veg specially    lemons and 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4267080" y="266688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495680" y="3429000"/>
            <a:ext cx="9144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Comic Sans MS"/>
              </a:rPr>
              <a:t>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9"/>
          <a:stretch/>
        </p:blipFill>
        <p:spPr>
          <a:xfrm>
            <a:off x="4419720" y="3886200"/>
            <a:ext cx="1076040" cy="1228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419720" y="4952880"/>
            <a:ext cx="1143000" cy="276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5105520"/>
            <a:ext cx="2743200" cy="3373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Repeat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276960"/>
            <a:ext cx="281952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"/>
              </a:rPr>
              <a:t>Throws cutlery over fences-so lock i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0"/>
          <a:stretch/>
        </p:blipFill>
        <p:spPr>
          <a:xfrm>
            <a:off x="609480" y="5638680"/>
            <a:ext cx="1295640" cy="635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1"/>
          <a:stretch/>
        </p:blipFill>
        <p:spPr>
          <a:xfrm>
            <a:off x="228600" y="4419720"/>
            <a:ext cx="914400" cy="65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105520"/>
            <a:ext cx="2895480" cy="520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Throws rubbish- so keep bin in ga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1752480"/>
            <a:ext cx="1295280" cy="1647720"/>
            <a:chOff x="0" y="1752480"/>
            <a:chExt cx="1295280" cy="1647720"/>
          </a:xfrm>
        </p:grpSpPr>
        <p:pic>
          <p:nvPicPr>
            <p:cNvPr id="407" name="" descr=""/>
            <p:cNvPicPr/>
            <p:nvPr/>
          </p:nvPicPr>
          <p:blipFill>
            <a:blip r:embed="rId22"/>
            <a:stretch/>
          </p:blipFill>
          <p:spPr>
            <a:xfrm>
              <a:off x="75960" y="1752480"/>
              <a:ext cx="10663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2666880"/>
              <a:ext cx="129528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33"/>
                  </a:solidFill>
                  <a:latin typeface="Arial"/>
                </a:rPr>
                <a:t>Eats small unsafe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23"/>
          <a:stretch/>
        </p:blipFill>
        <p:spPr>
          <a:xfrm>
            <a:off x="6019920" y="5029200"/>
            <a:ext cx="761760" cy="5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0" y="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GB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24" action="ppaction://hlinksldjump"/>
          </p:cNvPr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6521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33"/>
                </a:solidFill>
                <a:latin typeface="Bradley Hand ITC"/>
              </a:rPr>
              <a:t>Developed by AANSW Training Unit</a:t>
            </a:r>
            <a:r>
              <a:rPr b="0" lang="en-US" sz="1600" spc="-1" strike="noStrike">
                <a:solidFill>
                  <a:srgbClr val="330033"/>
                </a:solidFill>
                <a:latin typeface="Bradley Hand ITC"/>
              </a:rPr>
              <a:t>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1447920" y="2286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6"/>
          <a:stretch/>
        </p:blipFill>
        <p:spPr>
          <a:xfrm>
            <a:off x="4267080" y="0"/>
            <a:ext cx="1486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ut of the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uch mor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teach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ss and lunchtimes - very litt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less adul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round the school -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, swimming, getting changed at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the cant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vulnerable to bullying and 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activities, 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mand on social understanding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mands and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ime to b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376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The Triad of Impairments </a:t>
            </a:r>
            <a:br>
              <a:rPr sz="3800"/>
            </a:b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in Autism Spectrum Disord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048120"/>
            <a:ext cx="2667240" cy="1981080"/>
          </a:xfrm>
          <a:custGeom>
            <a:avLst/>
            <a:gdLst/>
            <a:ahLst/>
            <a:rect l="l" t="t" r="r" b="b"/>
            <a:pathLst>
              <a:path w="196" h="164">
                <a:moveTo>
                  <a:pt x="98" y="0"/>
                </a:moveTo>
                <a:lnTo>
                  <a:pt x="0" y="164"/>
                </a:lnTo>
                <a:lnTo>
                  <a:pt x="196" y="164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1828800"/>
            <a:ext cx="4495680" cy="1448280"/>
            <a:chOff x="2133720" y="1828800"/>
            <a:chExt cx="4495680" cy="1448280"/>
          </a:xfrm>
        </p:grpSpPr>
        <p:sp>
          <p:nvSpPr>
            <p:cNvPr id="105" name=""/>
            <p:cNvSpPr/>
            <p:nvPr/>
          </p:nvSpPr>
          <p:spPr>
            <a:xfrm>
              <a:off x="2133720" y="2666880"/>
              <a:ext cx="4495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LANGUAGE AND </a:t>
              </a: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267080" y="1905120"/>
              <a:ext cx="9972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57600" y="182880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7200" y="4343400"/>
            <a:ext cx="2895480" cy="1448280"/>
            <a:chOff x="457200" y="4343400"/>
            <a:chExt cx="2895480" cy="1448280"/>
          </a:xfrm>
        </p:grpSpPr>
        <p:sp>
          <p:nvSpPr>
            <p:cNvPr id="109" name=""/>
            <p:cNvSpPr/>
            <p:nvPr/>
          </p:nvSpPr>
          <p:spPr>
            <a:xfrm>
              <a:off x="457200" y="5181480"/>
              <a:ext cx="2895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SOCIAL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  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9320" y="4343400"/>
              <a:ext cx="1482480" cy="764280"/>
              <a:chOff x="1219320" y="4343400"/>
              <a:chExt cx="1482480" cy="76428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4343400"/>
                <a:ext cx="8445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09680" y="4343400"/>
                <a:ext cx="49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663300"/>
                    </a:solidFill>
                    <a:latin typeface="Rockwell Extra Bol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724280" y="3657600"/>
            <a:ext cx="4181760" cy="2210400"/>
            <a:chOff x="4724280" y="3657600"/>
            <a:chExt cx="4181760" cy="2210400"/>
          </a:xfrm>
        </p:grpSpPr>
        <p:sp>
          <p:nvSpPr>
            <p:cNvPr id="114" name=""/>
            <p:cNvSpPr/>
            <p:nvPr/>
          </p:nvSpPr>
          <p:spPr>
            <a:xfrm>
              <a:off x="4724280" y="5257800"/>
              <a:ext cx="418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REPETITIVE BEHAVI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&amp; INFLEXIBILITY OF THOU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162840" y="3657600"/>
              <a:ext cx="2285280" cy="1447560"/>
              <a:chOff x="6162840" y="3657600"/>
              <a:chExt cx="2285280" cy="14475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162840" y="3657600"/>
                <a:ext cx="2285280" cy="1447560"/>
                <a:chOff x="6162840" y="3657600"/>
                <a:chExt cx="2285280" cy="14475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162840" y="3657600"/>
                  <a:ext cx="2285280" cy="1195920"/>
                  <a:chOff x="6162840" y="3657600"/>
                  <a:chExt cx="2285280" cy="11959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62840" y="4236480"/>
                    <a:ext cx="996120" cy="617040"/>
                  </a:xfrm>
                  <a:prstGeom prst="cloudCallout">
                    <a:avLst>
                      <a:gd name="adj1" fmla="val 88236"/>
                      <a:gd name="adj2" fmla="val 4468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514200" y="3754080"/>
                    <a:ext cx="996120" cy="617040"/>
                  </a:xfrm>
                  <a:prstGeom prst="cloudCallout">
                    <a:avLst>
                      <a:gd name="adj1" fmla="val 59722"/>
                      <a:gd name="adj2" fmla="val 117208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452000" y="3657600"/>
                    <a:ext cx="996120" cy="617040"/>
                  </a:xfrm>
                  <a:prstGeom prst="cloudCallout">
                    <a:avLst>
                      <a:gd name="adj1" fmla="val -21078"/>
                      <a:gd name="adj2" fmla="val 125569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aphicFrame>
              <p:nvGraphicFramePr>
                <p:cNvPr id="121" name=""/>
                <p:cNvGraphicFramePr/>
                <p:nvPr/>
              </p:nvGraphicFramePr>
              <p:xfrm>
                <a:off x="7335000" y="4719240"/>
                <a:ext cx="434520" cy="385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335000" y="4719240"/>
                          <a:ext cx="434520" cy="3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16640" y="429084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000" y="383832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0960" y="3747600"/>
                <a:ext cx="423360" cy="37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5663160" y="4343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nterven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ut’ and phased introduction into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t area – eg libra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sol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 before entering the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, bu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s, Circle Time, 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al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peer support - Yr 3 and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reas of social understanding –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game-playing skills and a repertoire of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to transfer this to br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home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difficult concep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asks into steps espec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work assessm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recording homework in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it to be handed in - keep a tally / reward chart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parents –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x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ility =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ts of practice and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cial stories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o look for key points 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on the answe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pport for structuring rev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visio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s unsett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known is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one step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levant inform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and practice 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 group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894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ory – written, photos, DVD to familiarise wi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to hand to new class, teachers,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list things they enjoy or are concerned about eg “Things to tell my new teac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visits to new environment as necessary – involve parents / student in 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>
              <a:buClr>
                <a:srgbClr val="33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mpaired language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muni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to communic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the occasion, o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how to communicate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y use unusu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adjusting to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others are ‘saying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dy and facial expression, 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teral, understanding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dioms, jokes, sarc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impaired social 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but often in a non-typical 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come stressed in socially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3. repetitive behaviours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inflexibility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maginative but don’t follow othe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mpathy, in ‘another’s sho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taking on view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airments beyond the Tri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airment of ‘Theory of Mind’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 not understand what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thinking or feeling 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y have a mind –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is area is critical to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autis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cit in ‘Central Cohere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not draw together ‘bits’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make sense of situation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ts, according to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any people with autism have fluctuating sensory sensitivities in their response to sound, touch, pain, noise, tastes and odour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43880" y="1844640"/>
            <a:ext cx="186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these impairments impact on students with ASD in the following areas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or making connections and generalis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ping ‘fuzzy’ concepts, ie puns and ir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hinking, very li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2:05Z</dcterms:created>
  <dc:creator>DET User</dc:creator>
  <dc:description/>
  <dc:language>en-US</dc:language>
  <cp:lastModifiedBy>Pamela Wilson User</cp:lastModifiedBy>
  <dcterms:modified xsi:type="dcterms:W3CDTF">2009-10-02T04:53:46Z</dcterms:modified>
  <cp:revision>6</cp:revision>
  <dc:subject/>
  <dc:title>Slide 1</dc:title>
</cp:coreProperties>
</file>